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5.jpeg" ContentType="image/jpeg"/>
  <Override PartName="/ppt/media/image1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AFF3-2C7F-4E6A-ACFB-E5271AD5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B80A-383D-485B-8C8C-9EE05A12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C8D-964B-4ADD-86C9-8375D257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D99-B19D-4D9B-B942-AFAE80CF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FF22D-65EE-4E6B-AF45-9800E80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43DE7-8488-41A4-B3EA-6D70879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1B314-F62E-477C-898D-1A03E213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C7788-1AFC-4B52-8AC0-8102D69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5FF5-10E1-47E8-8390-693ED93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9F00-0160-404F-AC59-63B121A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BE13E-2851-4CAD-9412-921DF05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982A5-E446-4503-A7E4-F6FDF2CB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ECE2C-FBD8-4F19-97B2-366189F5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5FDA8-83C3-4EB6-BDA5-F0FCBB5E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97E-8ACB-47F0-A88F-94A81851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CD78C-8D23-444E-AEF8-DD83226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3B716-897E-49AD-B1B9-1A8A33F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76F04-59AF-4D18-8788-E49F230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31669-86E3-4158-B3FA-4B35299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5C8C3-156A-4943-8A86-703429EF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01856-C308-4E47-97C6-7D80BBA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8748A-787E-4DCB-83A3-7B89830D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D7D19-1537-43D3-A195-69F5054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710E7-0A11-4D03-8138-8CC9E0A8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EB746-9E86-4E15-92B4-49FF831A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DD6-0E3F-475B-8673-1A95C32C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55FCB-9027-4FF7-BC49-0E4CF4F6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63295-41E7-42CF-B200-98FD6616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1863-F6F2-45DE-96EA-4227EA1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579DB-A7BD-4867-A736-78D2C1E1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17029-4E83-481B-973B-866FC218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DB7C-CFBF-4278-A411-A20832F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7D6D0-BB26-47EA-A9FE-08B73E0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19A1B-2BD0-4083-88A7-3B5C5F3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6BB53-BC74-4D65-BAC4-3173570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35813-B618-49E4-87B6-25F4072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EAA-9C14-4C7B-8F98-30EA9731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C30E-EBAF-47C0-83FA-863EEE4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D4ADE-6AD7-4E7C-975F-DFCC4DE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53C70-31F6-4771-8F2C-8571C60B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D31CD-C5CB-4DB6-8DD7-4253EFF3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EEFFD-C76F-406C-A8A5-B56B19F2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60CA5-79D4-4966-959E-472D5B99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A8B2-0601-4B62-9110-BA15A0D5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E95CF-946C-46F1-9787-51FCC000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61F66-21B2-4429-A839-3A4FB573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9E368-7D84-4259-89E6-9BF20AFF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52E-8D6B-4B9D-87C8-0E6D8ED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8543D-B118-4D02-A637-D7BE6EA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CECFF-002D-4A2F-A4C6-70C1B44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0D7E7-42CB-47BA-A89E-85403BA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908C-E5EE-4925-962F-A147DEBD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A7A83-8E4B-469F-A9E5-30707DE0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51831-D128-4714-8258-AF0FC1F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BDA43-E0C2-4D4B-AD80-99C4A6E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30B79-D0B4-4090-AD43-B1984C7C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E3157-40B4-4943-9E6A-6B44C73C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C02F7-FDC2-4975-998F-ADFB09E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1D7-FA7F-4ED6-AE95-1130B882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57B25-4D53-4D1A-90E6-6B37B5D5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BFAB3-7537-42E3-AE02-BAB6BC9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80564-C188-4169-884E-067ECE8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6A25-A7FE-4FEB-B183-D81C839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C07C5-A300-42F8-9CE9-A1907280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4A6B0-B67F-4C7F-9C03-CFB54A14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BC4BF-4B0F-4B3A-9FA1-BCF43E4B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F6D4A-4C69-4341-BF00-57324D4D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7258E-937C-4117-BA46-0E7F2AB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C9FAB-36EC-4185-9F0F-EE14CF55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76C2-C7EE-40CA-9E83-5B8A2CF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CF396-6A85-4A31-A270-129F4C17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60F6B-6F02-473F-85D3-6F3FA4D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8D7DE-9A2D-45B7-A2D9-47E21FB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52BF7-4C43-4DB0-A505-EC71E91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96DAB-AB61-4D07-9258-8A6E3C8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C27CB-6C2C-4CBB-A0C1-F9ACE48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C4CAB-45D7-422A-A5BE-E33379C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84E8E-CE7A-40A8-903B-FB2C4BC4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43C43-724E-4802-8D8E-8366434A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5F1F2-97D0-4B7C-BE37-A1C9A6BB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3D5A-3217-4079-9F7F-4B05A7E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CDB15-9517-48D7-8E19-DE384CFB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C4071-444E-4435-83CE-7A5703C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191BB-1A13-4794-BC7A-DC225907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EA0D8-0307-49DB-A0B7-9DD3661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36228-5F3A-40A0-AEF0-FF6B955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F8ACB-E7C2-4C9B-A0EB-766B6D5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D15FA-6F35-48D5-97E5-50702BB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BA3D1-2132-4729-B106-015678F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0ED69-8207-4341-84A1-ED36B156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869E1-A7B8-49C7-9650-92B928B0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4AE-6EA8-45A6-B451-3E0EB42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F653B-36B3-416B-A0FA-F17BD5AE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F8AE-1086-4206-BF2B-64ABBFF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88C-9D55-4018-B8BB-246F6EBF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80C-72A8-4AF4-AA49-5A9F31B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33C-ED2E-464F-9464-2D46C555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D916-D95F-4171-AD9D-EF524DC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BEC5-039C-412B-9384-38753E8B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4177-CC68-425E-934B-4D483E67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D333-E66B-4FA2-88CE-C101984B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CA52-B071-4868-BA98-93929E83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EE0F-AAE0-4610-B740-B6A746A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9A2C-4E0E-4B1C-91BE-C71CCCFD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2075-A7E6-4AEC-899B-EABD16FA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46-EBEC-4674-964E-68902FFB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0FD4-1A76-4487-8D3B-6E6026A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302B-64FF-4D7C-9DA3-14029F3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48CC-5608-4E5D-B255-57C9EB8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58C7-2FFD-41BD-BE1F-9DAE2FB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DBB6-5351-4B6D-8259-E6ECA0B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730D-DEDF-4462-B281-19D32943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A485-A318-4E9B-966B-452CFA9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184A-049D-4525-80A7-DCBA4DAF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D6AF-901D-41DC-915C-E0E9FB9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281C-74EB-4C65-847D-AD549DCA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9EF-1B37-4D72-9F8F-347CD75B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9608-E891-4ADB-BD52-2AF8371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4D39-F6A3-48E6-8265-E0FCACED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F464-46FA-40A8-B90B-A458D07A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02F2-C613-45C4-8AE3-19A038A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0CF64-C4CD-4B22-BA5F-82DA2F3D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3068-AC81-4302-BF0B-DA4C5B0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D304-E82A-41C8-B481-4A89FE1B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82A4-0886-43F6-B315-921CB4E4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8356-C43E-4FA9-A390-D9FABD9F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A41E4-ECBA-4C66-988C-5BE963EF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9DF-7E18-4C24-B12A-C4BAD21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23E6-14A2-4BB4-90B8-843A8131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522B-7A21-44CA-935F-ADDD1CCE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3E3B-8DFE-404B-9090-BE629986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D25A-CB1F-4208-9708-6B4F4251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05CE-E8B2-485C-80F3-778ACA1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2188-4EE8-4B92-B2DA-4C834C6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7008-99D1-4DD4-99C9-0E6C68D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54B1-ED42-4DFC-B12B-6B7AC4E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AF8E-2F91-48B6-9DAA-BC5B4F67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495B-21BC-4425-81D2-BB1A3E3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E94-BBC7-48A7-805D-70D6F04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C7BD-1A5C-473E-998B-5B0352F5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3C0B-4B13-4C11-8711-D5253EBD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256C-5037-4E89-B975-BF59D80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5A76-81F1-4FA3-9897-B90018FD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E6B6-5BF5-44E0-A24C-7FCD62C5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CD13-6DF8-45B0-91BA-481BD69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28EF-0AF6-44C8-A8D1-AC606EE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512C-7570-4994-9333-C773D81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B158-8E33-41F7-B563-111C5F28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649C-3887-4948-820B-DC7992C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C00-21FC-4EA6-81B9-7E8C38A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8358-F1C6-4FAC-9EBE-2BED1A1B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7797-3BDB-41B1-8B88-BCAF51BA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39665-CA64-48D7-9A73-92C5A802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15D4-E85D-43A2-BA69-2E815A8E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1F2FB-C7D6-4A51-95D0-DF69BBC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5155A-10A4-497E-9E5B-E78A6A0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D901E-E50F-4FD9-AB69-9D9055A8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9F3C4-69AB-45B5-ACE0-78CBCCC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07DF-8682-4B22-B78E-E5DCC8E3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3546D-FECE-4F5D-98AE-9085DDC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6DE-A010-45BF-A617-C3224B3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2A19-3B3F-4D24-9AE3-E9C4E31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126C-35A6-441C-94B6-C41A546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B2A0-A3FF-4C29-9CB1-DF430E2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DEE19-DB10-4A2A-B75D-92F17E2B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D58F-1341-4DDF-888C-A348F711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57B8-85E2-4014-962B-73627122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C9FB-AAAA-47FF-9CFA-4E15E83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A7A8-BA22-42DB-A0D6-BA33ACD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9147-1886-4385-A61C-7817647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E3EA-36B6-411E-8734-5F451CEA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5FC-F88F-4F7F-BA7E-D31B185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B031-9BE5-4228-9905-87CFDA34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D7DB-B21D-448E-981F-5981877E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C02C-6223-41DD-9695-2A42F50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572E-CA9C-4BC8-82F9-4F52ACC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5FC2-7920-4E08-AAC6-0B894D5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E594-F2BF-4666-A6DC-6783B9E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474D-2A1E-466C-B631-D4C4AAD5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D8881-BC96-4ED2-BE22-A5C76E2B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C5A17-9665-4A9A-ABD4-719FC9BB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55A54-FF06-4732-B053-8DEFAC6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F4D2-710D-4C7E-BB3C-671CE2DAD9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700-CF9D-4B3D-992A-12A416E6E4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0C1-7955-47A8-B2AD-B7496F90FF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25E-F375-4A37-BE7A-6B7CE64229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0809-6081-449B-B02F-5113E413BC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BB7-0933-4095-9F67-76CCBB39C0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DF4B-D030-41BB-B28F-1B8176276C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496C-8D28-4250-A5BB-147BE46365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CF2-780F-4AEE-BAD4-261ECAFFAE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773-29A7-4BD4-A64C-AAA7A7CAEF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5A9-E44B-4A70-AA1A-19AB3BE75C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FE5-0DBE-4F6E-953C-184830BF25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A79-2A6C-42E5-BBDD-52A5603333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449-B6F0-46AB-A063-0545AA10FD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551-BA70-413D-8AB3-4CB0F0137C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1"/>
          <p:cNvSpPr/>
          <p:nvPr/>
        </p:nvSpPr>
        <p:spPr>
          <a:xfrm>
            <a:off x="182520" y="1268280"/>
            <a:ext cx="828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99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% пр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3"/>
              <p:cNvSpPr txBox="1"/>
              <p:nvPr/>
            </p:nvSpPr>
            <p:spPr>
              <a:xfrm>
                <a:off x="182520" y="2997360"/>
                <a:ext cx="871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-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4"/>
              <p:cNvSpPr txBox="1"/>
              <p:nvPr/>
            </p:nvSpPr>
            <p:spPr>
              <a:xfrm>
                <a:off x="182520" y="1987560"/>
                <a:ext cx="5302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9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1371600" y="4508640"/>
                <a:ext cx="4681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182520" y="126828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"/>
              <p:cNvSpPr txBox="1"/>
              <p:nvPr/>
            </p:nvSpPr>
            <p:spPr>
              <a:xfrm>
                <a:off x="4754520" y="4389480"/>
                <a:ext cx="3154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5" name="Rectangle 4"/>
          <p:cNvSpPr/>
          <p:nvPr/>
        </p:nvSpPr>
        <p:spPr>
          <a:xfrm>
            <a:off x="182520" y="3017880"/>
            <a:ext cx="4341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4754520" y="2743200"/>
          <a:ext cx="33577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743200"/>
                    <a:ext cx="3357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Rectangle 4"/>
          <p:cNvSpPr/>
          <p:nvPr/>
        </p:nvSpPr>
        <p:spPr>
          <a:xfrm>
            <a:off x="182520" y="457200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4754520" y="53942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6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4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Rectangle 7"/>
          <p:cNvSpPr/>
          <p:nvPr/>
        </p:nvSpPr>
        <p:spPr>
          <a:xfrm>
            <a:off x="177120" y="374976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</a:t>
            </a:r>
            <a:r>
              <a:rPr b="0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sr-CS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204120" y="2560680"/>
            <a:ext cx="437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ем случају редокс 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"/>
          <p:cNvSpPr/>
          <p:nvPr/>
        </p:nvSpPr>
        <p:spPr>
          <a:xfrm>
            <a:off x="250920" y="100656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јона 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7"/>
              <p:cNvSpPr txBox="1"/>
              <p:nvPr/>
            </p:nvSpPr>
            <p:spPr>
              <a:xfrm>
                <a:off x="1371600" y="2468520"/>
                <a:ext cx="41893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4" name="Rectangle 4"/>
          <p:cNvSpPr/>
          <p:nvPr/>
        </p:nvSpPr>
        <p:spPr>
          <a:xfrm>
            <a:off x="182520" y="210672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0" lang="sl-SI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осле тачке еквиваленције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6"/>
              <p:cNvSpPr txBox="1"/>
              <p:nvPr/>
            </p:nvSpPr>
            <p:spPr>
              <a:xfrm>
                <a:off x="182520" y="3565440"/>
                <a:ext cx="8852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7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8"/>
              <p:cNvSpPr txBox="1"/>
              <p:nvPr/>
            </p:nvSpPr>
            <p:spPr>
              <a:xfrm>
                <a:off x="1371600" y="5211720"/>
                <a:ext cx="4498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3"/>
          <p:cNvSpPr/>
          <p:nvPr/>
        </p:nvSpPr>
        <p:spPr>
          <a:xfrm>
            <a:off x="182520" y="603576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је погодније израчунати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49480" y="2286000"/>
            <a:ext cx="5040360" cy="259380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2"/>
          <p:cNvSpPr/>
          <p:nvPr/>
        </p:nvSpPr>
        <p:spPr>
          <a:xfrm>
            <a:off x="182520" y="5121360"/>
            <a:ext cx="864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 је нагла промена електродног потенцијала, ЗТТ се лако одређује, велика константа равнот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је симетрична око ТЕ (исти молски однос реактана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идентичнана и за разблажене  и за концентроване растворе, значи електродни потенцијал не зависи од разблажења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182520" y="1268280"/>
            <a:ext cx="83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0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0,01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"/>
          <p:cNvSpPr/>
          <p:nvPr/>
        </p:nvSpPr>
        <p:spPr>
          <a:xfrm>
            <a:off x="208080" y="11095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различитим бројем електрона у једначинама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208080" y="2774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500 mol/L стандардним 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1000 mol/L, у раствору HCl (c =1 mol/L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231840" y="2354400"/>
            <a:ext cx="54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Sn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тандардним раствором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371600" y="4508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1371600" y="5589720"/>
                <a:ext cx="5803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"/>
              <p:cNvSpPr txBox="1"/>
              <p:nvPr/>
            </p:nvSpPr>
            <p:spPr>
              <a:xfrm>
                <a:off x="6400800" y="4051440"/>
                <a:ext cx="2362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4"/>
              <p:cNvSpPr txBox="1"/>
              <p:nvPr/>
            </p:nvSpPr>
            <p:spPr>
              <a:xfrm>
                <a:off x="6400800" y="4648320"/>
                <a:ext cx="251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3"/>
          <p:cNvSpPr/>
          <p:nvPr/>
        </p:nvSpPr>
        <p:spPr>
          <a:xfrm>
            <a:off x="182520" y="241128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7"/>
              <p:cNvSpPr txBox="1"/>
              <p:nvPr/>
            </p:nvSpPr>
            <p:spPr>
              <a:xfrm>
                <a:off x="1371600" y="4754520"/>
                <a:ext cx="4216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S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1" name="Rectangle 7"/>
          <p:cNvSpPr/>
          <p:nvPr/>
        </p:nvSpPr>
        <p:spPr>
          <a:xfrm>
            <a:off x="182520" y="1268280"/>
            <a:ext cx="6551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1371600" y="3932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182520" y="594360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1"/>
          <p:cNvSpPr/>
          <p:nvPr/>
        </p:nvSpPr>
        <p:spPr>
          <a:xfrm>
            <a:off x="182520" y="14637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2"/>
              <p:cNvSpPr txBox="1"/>
              <p:nvPr/>
            </p:nvSpPr>
            <p:spPr>
              <a:xfrm>
                <a:off x="184320" y="3108240"/>
                <a:ext cx="635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184320" y="2103480"/>
                <a:ext cx="89596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mol/L -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7"/>
              <p:cNvSpPr txBox="1"/>
              <p:nvPr/>
            </p:nvSpPr>
            <p:spPr>
              <a:xfrm>
                <a:off x="1371600" y="4297320"/>
                <a:ext cx="5054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TextBox 5"/>
          <p:cNvSpPr/>
          <p:nvPr/>
        </p:nvSpPr>
        <p:spPr>
          <a:xfrm>
            <a:off x="209520" y="557856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82520" y="1049400"/>
            <a:ext cx="86425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7"/>
              <p:cNvSpPr txBox="1"/>
              <p:nvPr/>
            </p:nvSpPr>
            <p:spPr>
              <a:xfrm>
                <a:off x="1371600" y="3657600"/>
                <a:ext cx="336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n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S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C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1" name="Rectangle 4"/>
          <p:cNvSpPr/>
          <p:nvPr/>
        </p:nvSpPr>
        <p:spPr>
          <a:xfrm>
            <a:off x="1371600" y="30178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5"/>
              <p:cNvSpPr txBox="1"/>
              <p:nvPr/>
            </p:nvSpPr>
            <p:spPr>
              <a:xfrm>
                <a:off x="1371600" y="4754520"/>
                <a:ext cx="3833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3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03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TextBox 6"/>
          <p:cNvSpPr/>
          <p:nvPr/>
        </p:nvSpPr>
        <p:spPr>
          <a:xfrm>
            <a:off x="182520" y="234936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182520" y="585144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је ближи стандардном редокс потенцијалу редокс пара који у својој полуреакцији размењује већи број електро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182520" y="907920"/>
            <a:ext cx="864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7"/>
              <p:cNvSpPr txBox="1"/>
              <p:nvPr/>
            </p:nvSpPr>
            <p:spPr>
              <a:xfrm>
                <a:off x="1371600" y="2286000"/>
                <a:ext cx="40006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C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5"/>
              <p:cNvSpPr txBox="1"/>
              <p:nvPr/>
            </p:nvSpPr>
            <p:spPr>
              <a:xfrm>
                <a:off x="182520" y="3475080"/>
                <a:ext cx="8664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  - 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5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6"/>
              <p:cNvSpPr txBox="1"/>
              <p:nvPr/>
            </p:nvSpPr>
            <p:spPr>
              <a:xfrm>
                <a:off x="182520" y="4389480"/>
                <a:ext cx="545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1,0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9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TextBox 7"/>
          <p:cNvSpPr/>
          <p:nvPr/>
        </p:nvSpPr>
        <p:spPr>
          <a:xfrm>
            <a:off x="182520" y="191772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Cr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1% пo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ачке еквиваленциј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8"/>
              <p:cNvSpPr txBox="1"/>
              <p:nvPr/>
            </p:nvSpPr>
            <p:spPr>
              <a:xfrm>
                <a:off x="1371600" y="5211720"/>
                <a:ext cx="5376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3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,9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5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0,26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Rectangle 3"/>
          <p:cNvSpPr/>
          <p:nvPr/>
        </p:nvSpPr>
        <p:spPr>
          <a:xfrm>
            <a:off x="182520" y="6218280"/>
            <a:ext cx="86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r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82520" y="558972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већањем разлике у броју електрона који се појављују у две полуреакције титрациона крива је све мање симетрич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182520" y="1268280"/>
            <a:ext cx="888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mL раствора S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0500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1000 mol/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6"/>
          <p:cNvGrpSpPr/>
          <p:nvPr/>
        </p:nvGrpSpPr>
        <p:grpSpPr>
          <a:xfrm>
            <a:off x="1332000" y="2301840"/>
            <a:ext cx="6107040" cy="3024360"/>
            <a:chOff x="1332000" y="2301840"/>
            <a:chExt cx="6107040" cy="3024360"/>
          </a:xfrm>
        </p:grpSpPr>
        <p:pic>
          <p:nvPicPr>
            <p:cNvPr id="855" name="Picture 5" descr="C:\Users\Maca\Desktop\I ned AH\redoks1.png"/>
            <p:cNvPicPr/>
            <p:nvPr/>
          </p:nvPicPr>
          <p:blipFill>
            <a:blip r:embed="rId1"/>
            <a:stretch/>
          </p:blipFill>
          <p:spPr>
            <a:xfrm>
              <a:off x="1332000" y="2301840"/>
              <a:ext cx="61070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Box 4"/>
            <p:cNvSpPr/>
            <p:nvPr/>
          </p:nvSpPr>
          <p:spPr>
            <a:xfrm>
              <a:off x="3852360" y="265248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3+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/Cr</a:t>
              </a:r>
              <a:r>
                <a:rPr b="0" lang="en-US" sz="20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"/>
          <p:cNvSpPr/>
          <p:nvPr/>
        </p:nvSpPr>
        <p:spPr>
          <a:xfrm>
            <a:off x="182520" y="2349360"/>
            <a:ext cx="8710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оксидо-редукц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волуметријске методе које се заснива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докс реакција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оксидо-редукционих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елемената се може појављивати у више оксидационих ст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тандардних раствора реагенаса је већи него код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 проширује додатком комплексирајућих супстанци, кој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м комплекса могу мењати електродни потенцијал титрован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реагенса, чиме реакција постаје бржа и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"/>
          <p:cNvSpPr/>
          <p:nvPr/>
        </p:nvSpPr>
        <p:spPr>
          <a:xfrm>
            <a:off x="355680" y="10047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е заснован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идо-редукционим реакц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1025640" y="1003320"/>
            <a:ext cx="69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код којих се у једначинама полуреакција појављују вода и њени ј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"/>
          <p:cNvSpPr/>
          <p:nvPr/>
        </p:nvSpPr>
        <p:spPr>
          <a:xfrm>
            <a:off x="182520" y="2198520"/>
            <a:ext cx="5765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Mn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1189080" y="411480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7"/>
              <p:cNvSpPr txBox="1"/>
              <p:nvPr/>
            </p:nvSpPr>
            <p:spPr>
              <a:xfrm>
                <a:off x="1189080" y="5792760"/>
                <a:ext cx="6405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O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4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Rectangle 1"/>
          <p:cNvSpPr/>
          <p:nvPr/>
        </p:nvSpPr>
        <p:spPr>
          <a:xfrm>
            <a:off x="182520" y="2558880"/>
            <a:ext cx="8640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0,100 mol/L стандардним раствором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е 0,02000 mol/L у киселој средини [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1 mol/L (pH=0,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6400800" y="5143680"/>
                <a:ext cx="248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4"/>
              <p:cNvSpPr txBox="1"/>
              <p:nvPr/>
            </p:nvSpPr>
            <p:spPr>
              <a:xfrm>
                <a:off x="6400800" y="45975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182520" y="23493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неиститрова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, еквивалент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7"/>
              <p:cNvSpPr txBox="1"/>
              <p:nvPr/>
            </p:nvSpPr>
            <p:spPr>
              <a:xfrm>
                <a:off x="1371600" y="4754520"/>
                <a:ext cx="445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6" name="Rectangle 3"/>
          <p:cNvSpPr/>
          <p:nvPr/>
        </p:nvSpPr>
        <p:spPr>
          <a:xfrm>
            <a:off x="1371600" y="3932280"/>
            <a:ext cx="61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82520" y="1268280"/>
            <a:ext cx="8709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ектродни потенцијал не може да се израчуна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82520" y="60357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ре ТЕ се израчунава, помоћ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9" name="Object 2"/>
              <p:cNvSpPr txBox="1"/>
              <p:nvPr/>
            </p:nvSpPr>
            <p:spPr>
              <a:xfrm>
                <a:off x="182520" y="3067200"/>
                <a:ext cx="6230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3"/>
              <p:cNvSpPr txBox="1"/>
              <p:nvPr/>
            </p:nvSpPr>
            <p:spPr>
              <a:xfrm>
                <a:off x="182520" y="1924200"/>
                <a:ext cx="8794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5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mol/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TextBox 3"/>
          <p:cNvSpPr/>
          <p:nvPr/>
        </p:nvSpPr>
        <p:spPr>
          <a:xfrm>
            <a:off x="246240" y="1268280"/>
            <a:ext cx="5046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5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Object 7"/>
              <p:cNvSpPr txBox="1"/>
              <p:nvPr/>
            </p:nvSpPr>
            <p:spPr>
              <a:xfrm>
                <a:off x="1371600" y="4508640"/>
                <a:ext cx="5535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,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TextBox 5"/>
          <p:cNvSpPr/>
          <p:nvPr/>
        </p:nvSpPr>
        <p:spPr>
          <a:xfrm>
            <a:off x="209520" y="5761080"/>
            <a:ext cx="83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1"/>
          <p:cNvSpPr/>
          <p:nvPr/>
        </p:nvSpPr>
        <p:spPr>
          <a:xfrm>
            <a:off x="250920" y="1241280"/>
            <a:ext cx="86421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врло мала 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повратне рекације.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7"/>
              <p:cNvSpPr txBox="1"/>
              <p:nvPr/>
            </p:nvSpPr>
            <p:spPr>
              <a:xfrm>
                <a:off x="1371600" y="4065480"/>
                <a:ext cx="5757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4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M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6" name="Rectangle 3"/>
          <p:cNvSpPr/>
          <p:nvPr/>
        </p:nvSpPr>
        <p:spPr>
          <a:xfrm>
            <a:off x="1371600" y="3068640"/>
            <a:ext cx="61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Mn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4"/>
          <p:cNvGraphicFramePr/>
          <p:nvPr/>
        </p:nvGraphicFramePr>
        <p:xfrm>
          <a:off x="1371600" y="5211720"/>
          <a:ext cx="4956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211720"/>
                    <a:ext cx="4956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Box 5"/>
          <p:cNvSpPr/>
          <p:nvPr/>
        </p:nvSpPr>
        <p:spPr>
          <a:xfrm>
            <a:off x="250920" y="2573280"/>
            <a:ext cx="499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0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0" name="Object 7"/>
          <p:cNvGraphicFramePr/>
          <p:nvPr/>
        </p:nvGraphicFramePr>
        <p:xfrm>
          <a:off x="7581960" y="5394240"/>
          <a:ext cx="8175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1960" y="5394240"/>
                    <a:ext cx="817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7"/>
          <p:cNvSpPr/>
          <p:nvPr/>
        </p:nvSpPr>
        <p:spPr>
          <a:xfrm>
            <a:off x="182520" y="603576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на ТЕ зависи и од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 односно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"/>
          <p:cNvSpPr/>
          <p:nvPr/>
        </p:nvSpPr>
        <p:spPr>
          <a:xfrm>
            <a:off x="182520" y="1006560"/>
            <a:ext cx="864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ле 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квивалентне количин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к је концентр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ко м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7"/>
              <p:cNvSpPr txBox="1"/>
              <p:nvPr/>
            </p:nvSpPr>
            <p:spPr>
              <a:xfrm>
                <a:off x="1371600" y="2560680"/>
                <a:ext cx="60008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M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5" name="TextBox 4"/>
          <p:cNvSpPr/>
          <p:nvPr/>
        </p:nvSpPr>
        <p:spPr>
          <a:xfrm>
            <a:off x="182520" y="2103480"/>
            <a:ext cx="5099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 101,00 mL раствора 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nO</a:t>
            </a:r>
            <a:r>
              <a:rPr b="0" lang="pt-BR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4"/>
              <p:cNvSpPr txBox="1"/>
              <p:nvPr/>
            </p:nvSpPr>
            <p:spPr>
              <a:xfrm>
                <a:off x="182520" y="3475080"/>
                <a:ext cx="88232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1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 mol/L  - 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100,00 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5"/>
              <p:cNvSpPr txBox="1"/>
              <p:nvPr/>
            </p:nvSpPr>
            <p:spPr>
              <a:xfrm>
                <a:off x="182520" y="4479840"/>
                <a:ext cx="5497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0200 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,10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6"/>
              <p:cNvSpPr txBox="1"/>
              <p:nvPr/>
            </p:nvSpPr>
            <p:spPr>
              <a:xfrm>
                <a:off x="182520" y="5303880"/>
                <a:ext cx="57564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,9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1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47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Rectangle 3"/>
          <p:cNvSpPr/>
          <p:nvPr/>
        </p:nvSpPr>
        <p:spPr>
          <a:xfrm>
            <a:off x="182520" y="6218280"/>
            <a:ext cx="864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после ТЕ се израчунава, помоћу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n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759280" cy="28386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130320" y="1440000"/>
            <a:ext cx="8885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=0,100 mol/L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 KM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2000 mol/L) при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182520" y="5943600"/>
            <a:ext cx="871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она крива није симетрична око ТЕ и померена је ка редокс пару који учествује са већим бројем електр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1"/>
          <p:cNvSpPr/>
          <p:nvPr/>
        </p:nvSpPr>
        <p:spPr>
          <a:xfrm>
            <a:off x="611280" y="12081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где један молекул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 реактаната даје два или више молекул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производа реакције и обрну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1371600" y="3557520"/>
            <a:ext cx="588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468520" y="4290840"/>
            <a:ext cx="30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e-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"/>
          <p:cNvSpPr/>
          <p:nvPr/>
        </p:nvSpPr>
        <p:spPr>
          <a:xfrm>
            <a:off x="182520" y="522936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вано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укованог облика у Нернстовој једначини имају различите експоненте, па електродни потенцијали зависе од разблажењ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82520" y="2708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e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дихроматом, тиосулфатом, јодом, бромом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1371600" y="1920960"/>
            <a:ext cx="68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4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Cr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Fe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Object 5"/>
              <p:cNvSpPr txBox="1"/>
              <p:nvPr/>
            </p:nvSpPr>
            <p:spPr>
              <a:xfrm>
                <a:off x="1371600" y="2468520"/>
                <a:ext cx="36226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7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2C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/F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0" name="Rectangle 2"/>
          <p:cNvSpPr/>
          <p:nvPr/>
        </p:nvSpPr>
        <p:spPr>
          <a:xfrm>
            <a:off x="182520" y="1006560"/>
            <a:ext cx="594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дним раствором Cr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200160" y="1463760"/>
            <a:ext cx="38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н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Т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457200" y="3565440"/>
            <a:ext cx="159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7"/>
              <p:cNvSpPr txBox="1"/>
              <p:nvPr/>
            </p:nvSpPr>
            <p:spPr>
              <a:xfrm>
                <a:off x="457200" y="3932280"/>
                <a:ext cx="394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4" name="TextBox 10"/>
          <p:cNvSpPr/>
          <p:nvPr/>
        </p:nvSpPr>
        <p:spPr>
          <a:xfrm>
            <a:off x="197640" y="31082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внотежи (на ТЕ) електродни потенцијали редокс паров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јед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3"/>
              <p:cNvSpPr txBox="1"/>
              <p:nvPr/>
            </p:nvSpPr>
            <p:spPr>
              <a:xfrm>
                <a:off x="457200" y="4846680"/>
                <a:ext cx="5665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4"/>
              <p:cNvSpPr txBox="1"/>
              <p:nvPr/>
            </p:nvSpPr>
            <p:spPr>
              <a:xfrm>
                <a:off x="457200" y="5761080"/>
                <a:ext cx="5751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2C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5"/>
          <p:cNvSpPr/>
          <p:nvPr/>
        </p:nvSpPr>
        <p:spPr>
          <a:xfrm>
            <a:off x="182520" y="162720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ирањем има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8" name="Object 6"/>
          <p:cNvGraphicFramePr/>
          <p:nvPr/>
        </p:nvGraphicFramePr>
        <p:xfrm>
          <a:off x="457200" y="2084400"/>
          <a:ext cx="68803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84400"/>
                    <a:ext cx="68803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Box 7"/>
          <p:cNvSpPr/>
          <p:nvPr/>
        </p:nvSpPr>
        <p:spPr>
          <a:xfrm>
            <a:off x="186480" y="27432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Object 7"/>
          <p:cNvGraphicFramePr/>
          <p:nvPr/>
        </p:nvGraphicFramePr>
        <p:xfrm>
          <a:off x="457200" y="3108240"/>
          <a:ext cx="20685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08240"/>
                    <a:ext cx="2068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TextBox 9"/>
          <p:cNvSpPr/>
          <p:nvPr/>
        </p:nvSpPr>
        <p:spPr>
          <a:xfrm>
            <a:off x="2775240" y="3068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Object 8"/>
          <p:cNvGraphicFramePr/>
          <p:nvPr/>
        </p:nvGraphicFramePr>
        <p:xfrm>
          <a:off x="3490920" y="3108240"/>
          <a:ext cx="24541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3108240"/>
                    <a:ext cx="245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Box 11"/>
          <p:cNvSpPr/>
          <p:nvPr/>
        </p:nvSpPr>
        <p:spPr>
          <a:xfrm>
            <a:off x="184680" y="378936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ом у горњој једначини добиј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9"/>
          <p:cNvGraphicFramePr/>
          <p:nvPr/>
        </p:nvGraphicFramePr>
        <p:xfrm>
          <a:off x="457200" y="4149720"/>
          <a:ext cx="766296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49720"/>
                    <a:ext cx="76629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10"/>
          <p:cNvGraphicFramePr/>
          <p:nvPr/>
        </p:nvGraphicFramePr>
        <p:xfrm>
          <a:off x="457200" y="5211720"/>
          <a:ext cx="5857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211720"/>
                    <a:ext cx="5857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TextBox 14"/>
          <p:cNvSpPr/>
          <p:nvPr/>
        </p:nvSpPr>
        <p:spPr>
          <a:xfrm>
            <a:off x="232920" y="6126120"/>
            <a:ext cx="73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зависи од концентрације реагенса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1"/>
          <p:cNvSpPr/>
          <p:nvPr/>
        </p:nvSpPr>
        <p:spPr>
          <a:xfrm>
            <a:off x="1403640" y="1017720"/>
            <a:ext cx="64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завршне тачке ти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 редокс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"/>
          <p:cNvSpPr/>
          <p:nvPr/>
        </p:nvSpPr>
        <p:spPr>
          <a:xfrm>
            <a:off x="182520" y="2193840"/>
            <a:ext cx="896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а тачка титрације код редокс титрација се може одред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 редокс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ом специфичних индикатора (супстанце које реагују само са једним обликом редокс пара; пример: скроб као индикатор, код титрација са јод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ндикацијом (пример: калијум-перманганат као титрационо средство и индика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182520" y="1828800"/>
            <a:ext cx="871056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едокс титрација на титрационој кривој се приказује зависност електродног потенцијала од запремине додатог титрационог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разлога за 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лектродни потенцијал је логаритамска функција концентрација супстанци које реагу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оришћење електродних потенцијала олакшава избор редокс-индикатора (индикатори су у овом случају сами редокс парови који реагују на промену потенцијала систе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д инструменталних метода за одређивање ЗТТ редокс титрација се ме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систем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од остал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тријских метода, на ординату се може наносити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 логаритам концентрације титрован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"/>
          <p:cNvSpPr/>
          <p:nvPr/>
        </p:nvSpPr>
        <p:spPr>
          <a:xfrm>
            <a:off x="2930400" y="105876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оне кр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"/>
          <p:cNvSpPr/>
          <p:nvPr/>
        </p:nvSpPr>
        <p:spPr>
          <a:xfrm>
            <a:off x="182520" y="1646280"/>
            <a:ext cx="8710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индикато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ске супстанце које се понашају као слаба оксидациона или редукциона сред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оксидованог и редукованог облика је различ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се мења у зависности од електродног потенцијала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"/>
          <p:cNvSpPr/>
          <p:nvPr/>
        </p:nvSpPr>
        <p:spPr>
          <a:xfrm>
            <a:off x="2772360" y="110484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окс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71600" y="3200400"/>
            <a:ext cx="6605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z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1384200" y="3565440"/>
            <a:ext cx="303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1                     боја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1412280" y="4022640"/>
            <a:ext cx="647316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ксид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дуковани облик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ндардни електродни потенцијал индика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8"/>
          <p:cNvSpPr/>
          <p:nvPr/>
        </p:nvSpPr>
        <p:spPr>
          <a:xfrm>
            <a:off x="182520" y="5211720"/>
            <a:ext cx="582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верзибилне индикаторске полуреак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7"/>
              <p:cNvSpPr txBox="1"/>
              <p:nvPr/>
            </p:nvSpPr>
            <p:spPr>
              <a:xfrm>
                <a:off x="1371600" y="5761080"/>
                <a:ext cx="3292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186480" y="109692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3"/>
              <p:cNvSpPr txBox="1"/>
              <p:nvPr/>
            </p:nvSpPr>
            <p:spPr>
              <a:xfrm>
                <a:off x="1371600" y="2743200"/>
                <a:ext cx="17683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4"/>
              <p:cNvSpPr txBox="1"/>
              <p:nvPr/>
            </p:nvSpPr>
            <p:spPr>
              <a:xfrm>
                <a:off x="4695840" y="2743200"/>
                <a:ext cx="1833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4" name="Rectangle 5"/>
          <p:cNvSpPr/>
          <p:nvPr/>
        </p:nvSpPr>
        <p:spPr>
          <a:xfrm>
            <a:off x="182520" y="5121360"/>
            <a:ext cx="39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5"/>
              <p:cNvSpPr txBox="1"/>
              <p:nvPr/>
            </p:nvSpPr>
            <p:spPr>
              <a:xfrm>
                <a:off x="4114800" y="4892760"/>
                <a:ext cx="3454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6" name="TextBox 9"/>
          <p:cNvSpPr/>
          <p:nvPr/>
        </p:nvSpPr>
        <p:spPr>
          <a:xfrm>
            <a:off x="179280" y="16462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индикатора се мења када се однос концентрација оксидованог и редукованог облика индикатора промени 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0"/>
          <p:cNvSpPr/>
          <p:nvPr/>
        </p:nvSpPr>
        <p:spPr>
          <a:xfrm>
            <a:off x="3668760" y="3017880"/>
            <a:ext cx="5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182520" y="5851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 електродни потенцијал индикатора треба да буде близак електродном потенцијалу на тачки еквивален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9"/>
          <p:cNvSpPr/>
          <p:nvPr/>
        </p:nvSpPr>
        <p:spPr>
          <a:xfrm>
            <a:off x="182520" y="411480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једног облика индикатора мора бити 10 пута већа од концентрације другог облика индикатора, да би се уочила визуелна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182520" y="1279440"/>
            <a:ext cx="871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двобојног редокс индикатора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ин (1,10-фенантролин Fe (II)сулфат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светл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црвене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6" descr=""/>
          <p:cNvPicPr/>
          <p:nvPr/>
        </p:nvPicPr>
        <p:blipFill>
          <a:blip r:embed="rId1"/>
          <a:srcRect l="0" t="0" r="45759" b="0"/>
          <a:stretch/>
        </p:blipFill>
        <p:spPr>
          <a:xfrm>
            <a:off x="457200" y="2895480"/>
            <a:ext cx="2238480" cy="29448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7"/>
          <p:cNvSpPr/>
          <p:nvPr/>
        </p:nvSpPr>
        <p:spPr>
          <a:xfrm>
            <a:off x="4206960" y="2895480"/>
            <a:ext cx="3959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ветло пла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8"/>
          <p:cNvSpPr/>
          <p:nvPr/>
        </p:nvSpPr>
        <p:spPr>
          <a:xfrm>
            <a:off x="633240" y="5950080"/>
            <a:ext cx="139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e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230720" y="390528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5"/>
              <p:cNvSpPr txBox="1"/>
              <p:nvPr/>
            </p:nvSpPr>
            <p:spPr>
              <a:xfrm>
                <a:off x="4206960" y="5303880"/>
                <a:ext cx="3914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6" name="Rectangle 11"/>
          <p:cNvSpPr/>
          <p:nvPr/>
        </p:nvSpPr>
        <p:spPr>
          <a:xfrm>
            <a:off x="4216320" y="46641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прелаза индик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12"/>
          <p:cNvSpPr/>
          <p:nvPr/>
        </p:nvSpPr>
        <p:spPr>
          <a:xfrm>
            <a:off x="4224960" y="5943600"/>
            <a:ext cx="4749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за титрацију Fe(II) раствором Ce(I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"/>
          <p:cNvSpPr/>
          <p:nvPr/>
        </p:nvSpPr>
        <p:spPr>
          <a:xfrm>
            <a:off x="190080" y="1279440"/>
            <a:ext cx="305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бојн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"/>
          <p:cNvSpPr/>
          <p:nvPr/>
        </p:nvSpPr>
        <p:spPr>
          <a:xfrm>
            <a:off x="182520" y="3932280"/>
            <a:ext cx="8642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купна концентрација индикатора у раствор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инимална концентрација обојеног облика неопходна де се         примети обојеност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7"/>
              <p:cNvSpPr txBox="1"/>
              <p:nvPr/>
            </p:nvSpPr>
            <p:spPr>
              <a:xfrm>
                <a:off x="1371600" y="2651040"/>
                <a:ext cx="45036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059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1" name="TextBox 9"/>
          <p:cNvSpPr/>
          <p:nvPr/>
        </p:nvSpPr>
        <p:spPr>
          <a:xfrm>
            <a:off x="179280" y="192096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једнобојних индикатора се уочава када важ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"/>
          <p:cNvSpPr/>
          <p:nvPr/>
        </p:nvSpPr>
        <p:spPr>
          <a:xfrm>
            <a:off x="179280" y="53942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фениламин, дифенилбензидин, метиленско пл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"/>
          <p:cNvSpPr/>
          <p:nvPr/>
        </p:nvSpPr>
        <p:spPr>
          <a:xfrm>
            <a:off x="182520" y="11890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једнобојног редокс индикатора: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фениламин сулфонска киселина (најчешће у облику со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сидовани облик: љубичасто плавe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дуковани облик: безбој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3590280" y="2925720"/>
            <a:ext cx="174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82520" y="457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титрација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ним раствором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24 V при pH = 0,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III) који настају у току титрације се комплексирају са фосфорном киселином, чиме се смањује                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па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име и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612800" cy="16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7" name="Object 8"/>
              <p:cNvSpPr txBox="1"/>
              <p:nvPr/>
            </p:nvSpPr>
            <p:spPr>
              <a:xfrm>
                <a:off x="4767120" y="5689440"/>
                <a:ext cx="885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8" name="Rectangle 9"/>
          <p:cNvSpPr/>
          <p:nvPr/>
        </p:nvSpPr>
        <p:spPr>
          <a:xfrm>
            <a:off x="958680" y="6035760"/>
            <a:ext cx="14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1"/>
          <p:cNvSpPr/>
          <p:nvPr/>
        </p:nvSpPr>
        <p:spPr>
          <a:xfrm>
            <a:off x="182520" y="1828800"/>
            <a:ext cx="8642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 методе се на основу тога да ли се користи стандардни раствор оксидационог или редукционог средства деле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метр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тометр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2716920" y="109692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редокс 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"/>
          <p:cNvSpPr/>
          <p:nvPr/>
        </p:nvSpPr>
        <p:spPr>
          <a:xfrm>
            <a:off x="182520" y="356544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 подела је према стандардном раствору реагенса који се примењује у конкретном случа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44720" y="4389480"/>
            <a:ext cx="6922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перманганата- перманган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дихромата – дихромато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јода – јод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церијума(IV) – цериметр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ндардни раствор бромата – броматометрија и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"/>
          <p:cNvSpPr/>
          <p:nvPr/>
        </p:nvSpPr>
        <p:spPr>
          <a:xfrm>
            <a:off x="182520" y="1628640"/>
            <a:ext cx="82821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титр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трације код којих се појављује исти број електрона у обе једначине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итрације код којих се појављује различит број електрона у једначинама полуреакци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итрације код којих се у једначинама полуреакције појављују вода и њени јо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итрације код којих један молекул/јон ректаната дајe више молекула/јона производа реакције или обрнут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"/>
          <p:cNvSpPr/>
          <p:nvPr/>
        </p:nvSpPr>
        <p:spPr>
          <a:xfrm>
            <a:off x="1343880" y="1008000"/>
            <a:ext cx="64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равнотеже редокс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5796000" y="1646280"/>
            <a:ext cx="1803240" cy="8157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"/>
          <p:cNvSpPr/>
          <p:nvPr/>
        </p:nvSpPr>
        <p:spPr>
          <a:xfrm>
            <a:off x="457200" y="1828800"/>
            <a:ext cx="408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Re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"/>
          <p:cNvSpPr/>
          <p:nvPr/>
        </p:nvSpPr>
        <p:spPr>
          <a:xfrm>
            <a:off x="248760" y="2560680"/>
            <a:ext cx="46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 је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Object 7"/>
          <p:cNvGraphicFramePr/>
          <p:nvPr/>
        </p:nvGraphicFramePr>
        <p:xfrm>
          <a:off x="3024360" y="2468520"/>
          <a:ext cx="153648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4360" y="2468520"/>
                    <a:ext cx="1536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Box 9"/>
          <p:cNvSpPr/>
          <p:nvPr/>
        </p:nvSpPr>
        <p:spPr>
          <a:xfrm>
            <a:off x="182520" y="3292560"/>
            <a:ext cx="655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равнотежа:         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 може имати само један електродни потенција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14"/>
          <p:cNvGraphicFramePr/>
          <p:nvPr/>
        </p:nvGraphicFramePr>
        <p:xfrm>
          <a:off x="457200" y="4022640"/>
          <a:ext cx="4191120" cy="27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022640"/>
                    <a:ext cx="4191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Picture 15" descr=""/>
          <p:cNvPicPr/>
          <p:nvPr/>
        </p:nvPicPr>
        <p:blipFill>
          <a:blip r:embed="rId6"/>
          <a:stretch/>
        </p:blipFill>
        <p:spPr>
          <a:xfrm>
            <a:off x="8244000" y="6161040"/>
            <a:ext cx="718920" cy="308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6"/>
          <p:cNvSpPr/>
          <p:nvPr/>
        </p:nvSpPr>
        <p:spPr>
          <a:xfrm>
            <a:off x="3115080" y="616104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коефицијенти активитета једнаки јединиц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"/>
          <p:cNvSpPr/>
          <p:nvPr/>
        </p:nvSpPr>
        <p:spPr>
          <a:xfrm>
            <a:off x="1208160" y="982800"/>
            <a:ext cx="67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е са истим бројем електрон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обе једначине полу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201960" y="2028960"/>
            <a:ext cx="427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трација Fe(II) раствором Ce(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182520" y="2651040"/>
            <a:ext cx="8640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рација 100,00 mL раствора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раствором C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,1000 mol/L у киселој средини, c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 mol/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1371600" y="4114800"/>
            <a:ext cx="372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457200" y="5029200"/>
                <a:ext cx="5680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K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K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e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C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/F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,059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3"/>
              <p:cNvSpPr txBox="1"/>
              <p:nvPr/>
            </p:nvSpPr>
            <p:spPr>
              <a:xfrm>
                <a:off x="6400800" y="3789360"/>
                <a:ext cx="2286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e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</m:sup>
                                </m:sSup>
                              </m:den>
                            </m:f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4"/>
              <p:cNvSpPr txBox="1"/>
              <p:nvPr/>
            </p:nvSpPr>
            <p:spPr>
              <a:xfrm>
                <a:off x="6400800" y="4395960"/>
                <a:ext cx="2235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/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82520" y="3040200"/>
            <a:ext cx="8642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д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је вишак неиститровани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а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, као и врло ма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немарљива) количи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Object 7"/>
          <p:cNvGraphicFramePr/>
          <p:nvPr/>
        </p:nvGraphicFramePr>
        <p:xfrm>
          <a:off x="1371600" y="4983120"/>
          <a:ext cx="445788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983120"/>
                    <a:ext cx="44578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Rectangle 7"/>
          <p:cNvSpPr/>
          <p:nvPr/>
        </p:nvSpPr>
        <p:spPr>
          <a:xfrm>
            <a:off x="182520" y="1455840"/>
            <a:ext cx="87091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дни потенцијал п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 почетка ти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аствору су сам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, али раствор садржи и малу, непознату концентрациј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ксидација ваздушним кисеоником) - електродни потенцијал се не може израчунати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1371600" y="446868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"/>
          <p:cNvSpPr/>
          <p:nvPr/>
        </p:nvSpPr>
        <p:spPr>
          <a:xfrm>
            <a:off x="182520" y="1079640"/>
            <a:ext cx="86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до ТЕ је погодније израчунати, помоћ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се концентрације оба ова јона могу лако израчунати на основ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 додатог реаген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"/>
          <p:cNvSpPr/>
          <p:nvPr/>
        </p:nvSpPr>
        <p:spPr>
          <a:xfrm>
            <a:off x="182520" y="234792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4"/>
          <p:cNvGraphicFramePr/>
          <p:nvPr/>
        </p:nvGraphicFramePr>
        <p:xfrm>
          <a:off x="182520" y="3137040"/>
          <a:ext cx="727236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137040"/>
                    <a:ext cx="72723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6"/>
          <p:cNvGraphicFramePr/>
          <p:nvPr/>
        </p:nvGraphicFramePr>
        <p:xfrm>
          <a:off x="182520" y="4510080"/>
          <a:ext cx="88678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4510080"/>
                    <a:ext cx="8867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7"/>
          <p:cNvGraphicFramePr/>
          <p:nvPr/>
        </p:nvGraphicFramePr>
        <p:xfrm>
          <a:off x="1371600" y="5683320"/>
          <a:ext cx="571032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683320"/>
                    <a:ext cx="5710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2"/>
          <p:cNvSpPr/>
          <p:nvPr/>
        </p:nvSpPr>
        <p:spPr>
          <a:xfrm>
            <a:off x="182520" y="12668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додатку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0,00 mL раствора Ce</a:t>
            </a:r>
            <a:r>
              <a:rPr b="0" lang="en-US" sz="22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4+</a:t>
            </a:r>
            <a:r>
              <a:rPr b="0" lang="sl-SI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"/>
              <p:cNvSpPr txBox="1"/>
              <p:nvPr/>
            </p:nvSpPr>
            <p:spPr>
              <a:xfrm>
                <a:off x="182520" y="1920960"/>
                <a:ext cx="63961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6"/>
              <p:cNvSpPr txBox="1"/>
              <p:nvPr/>
            </p:nvSpPr>
            <p:spPr>
              <a:xfrm>
                <a:off x="182520" y="3200400"/>
                <a:ext cx="8942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 - 50,00m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0,100mol/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,00m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/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1371600" y="4297320"/>
                <a:ext cx="5538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TextBox 5"/>
          <p:cNvSpPr/>
          <p:nvPr/>
        </p:nvSpPr>
        <p:spPr>
          <a:xfrm>
            <a:off x="302400" y="5486400"/>
            <a:ext cx="852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у тачки половине титрације је једнак стандард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ом потенцијалу титрованог редокс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случају стандардном електродном потенција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докс п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0:47:46Z</dcterms:created>
  <dc:creator>Korisnik</dc:creator>
  <dc:description/>
  <dc:language>en-US</dc:language>
  <cp:lastModifiedBy>korisnik</cp:lastModifiedBy>
  <dcterms:modified xsi:type="dcterms:W3CDTF">2017-12-01T12:47:09Z</dcterms:modified>
  <cp:revision>517</cp:revision>
  <dc:subject/>
  <dc:title>Slide 1</dc:title>
</cp:coreProperties>
</file>